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5C6D-79DB-4250-B938-76E7777979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FB74-9479-4FA3-8696-3CE68B4C7F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139-BEE0-46E1-B07E-EE12CCD1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9F8-676A-42F6-86DA-F7B43B6B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042-C011-41F5-9E5E-B7E4CC33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EB8-4B12-4EFF-A3FD-97475454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224-6A48-4B4A-ABC3-BFA894FD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F0C-6AB7-43E9-B19E-45D3CA9A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B41-43AC-48BD-8658-35CC10D8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107-4A5C-4B59-8C8D-13705EC1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4B5-3893-4BCA-A26C-C9D570B5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5C2-8051-4120-9767-A0D603D3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9F9-7FA4-412A-AD0C-EFD62E13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235-4F44-4649-B44B-C0EFBA4D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6A23-1BEB-4B13-B3C2-BA7ECDDE6F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14720" y="142920"/>
            <a:ext cx="500040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Организационная структура специализированной пожарно-спасательной части ФПС ГПС Главного управления МЧС России  по Владимирской обла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85840" y="571680"/>
            <a:ext cx="2714400" cy="253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Управле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уководство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подразде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П и ПАСР –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журные смены -  6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лужба телекоммуникационная и связи –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лужба РХЗ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едико-психологическая служба -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долазная служба – 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инологическая группа -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руппа робототехнических средств и БЛА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Подразделения обеспеч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руппа МТО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Итого: 103  ед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714840" y="1071720"/>
            <a:ext cx="19288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3714840" y="1428840"/>
            <a:ext cx="19288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ачальник СПСЧ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714840" y="1785960"/>
            <a:ext cx="19288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меститель начальника СПСЧ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7286760" y="357120"/>
            <a:ext cx="15001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ДРАЗДЕЛЕНИЯ ОБЕСПЕЧ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6929280" y="785880"/>
            <a:ext cx="20718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Группа материально-технического обеспеч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6923160" y="1336680"/>
            <a:ext cx="20714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шина (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3643200" y="3714840"/>
            <a:ext cx="20718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СНОВНЫЕ ПОДРАЗДЕ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7"/>
          <p:cNvSpPr/>
          <p:nvPr/>
        </p:nvSpPr>
        <p:spPr>
          <a:xfrm>
            <a:off x="285840" y="3429000"/>
            <a:ext cx="19288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Дежурные смен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8"/>
          <p:cNvSpPr/>
          <p:nvPr/>
        </p:nvSpPr>
        <p:spPr>
          <a:xfrm>
            <a:off x="285840" y="3662280"/>
            <a:ext cx="192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ший инженер – руководитель дежурной смены (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9"/>
          <p:cNvSpPr/>
          <p:nvPr/>
        </p:nvSpPr>
        <p:spPr>
          <a:xfrm>
            <a:off x="279360" y="4044960"/>
            <a:ext cx="192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ший инструктор – пожарный (спасатель) (8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0"/>
          <p:cNvSpPr/>
          <p:nvPr/>
        </p:nvSpPr>
        <p:spPr>
          <a:xfrm>
            <a:off x="285840" y="4438800"/>
            <a:ext cx="19288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астер-пожарный (спасатель) (1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1"/>
          <p:cNvSpPr/>
          <p:nvPr/>
        </p:nvSpPr>
        <p:spPr>
          <a:xfrm>
            <a:off x="277920" y="4997520"/>
            <a:ext cx="192888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ший  инструктор по вождению пожарной машины – водитель (спасатель) (25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2"/>
          <p:cNvSpPr/>
          <p:nvPr/>
        </p:nvSpPr>
        <p:spPr>
          <a:xfrm>
            <a:off x="277920" y="4649760"/>
            <a:ext cx="192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ший инструктор ГДЗС (спасатель) (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3"/>
          <p:cNvSpPr/>
          <p:nvPr/>
        </p:nvSpPr>
        <p:spPr>
          <a:xfrm>
            <a:off x="2286000" y="4000680"/>
            <a:ext cx="12859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лужба телекоммуникационная и связ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6"/>
          <p:cNvSpPr/>
          <p:nvPr/>
        </p:nvSpPr>
        <p:spPr>
          <a:xfrm>
            <a:off x="2274840" y="4767120"/>
            <a:ext cx="12859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испетчер (5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7"/>
          <p:cNvSpPr/>
          <p:nvPr/>
        </p:nvSpPr>
        <p:spPr>
          <a:xfrm>
            <a:off x="3627360" y="3998880"/>
            <a:ext cx="128592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лужба тушения пожаров и проведения аварийно-спасательных рабо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8"/>
          <p:cNvSpPr/>
          <p:nvPr/>
        </p:nvSpPr>
        <p:spPr>
          <a:xfrm>
            <a:off x="3633840" y="5043600"/>
            <a:ext cx="1285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меститель начальника части (по проведению АСР) – начальник службы (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0"/>
          <p:cNvSpPr/>
          <p:nvPr/>
        </p:nvSpPr>
        <p:spPr>
          <a:xfrm>
            <a:off x="3633840" y="5716440"/>
            <a:ext cx="1285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нспектор по БиФП (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1"/>
          <p:cNvSpPr/>
          <p:nvPr/>
        </p:nvSpPr>
        <p:spPr>
          <a:xfrm>
            <a:off x="4960800" y="4010040"/>
            <a:ext cx="9288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едико-психологическая служб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2"/>
          <p:cNvSpPr/>
          <p:nvPr/>
        </p:nvSpPr>
        <p:spPr>
          <a:xfrm>
            <a:off x="4971960" y="4608360"/>
            <a:ext cx="9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Фельдшер (спасатель) (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3"/>
          <p:cNvSpPr/>
          <p:nvPr/>
        </p:nvSpPr>
        <p:spPr>
          <a:xfrm>
            <a:off x="4970520" y="5014800"/>
            <a:ext cx="9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сихолог (спасатель) (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4"/>
          <p:cNvSpPr/>
          <p:nvPr/>
        </p:nvSpPr>
        <p:spPr>
          <a:xfrm>
            <a:off x="5943600" y="4010040"/>
            <a:ext cx="10000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Водолазная служб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45"/>
          <p:cNvSpPr/>
          <p:nvPr/>
        </p:nvSpPr>
        <p:spPr>
          <a:xfrm>
            <a:off x="5946840" y="4443480"/>
            <a:ext cx="1000080" cy="7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ачальник службы – старший водолазный специалист (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6"/>
          <p:cNvSpPr/>
          <p:nvPr/>
        </p:nvSpPr>
        <p:spPr>
          <a:xfrm>
            <a:off x="5956200" y="5246640"/>
            <a:ext cx="100008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ший инструктор – водолаз  (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7"/>
          <p:cNvSpPr/>
          <p:nvPr/>
        </p:nvSpPr>
        <p:spPr>
          <a:xfrm>
            <a:off x="5954760" y="5800680"/>
            <a:ext cx="10000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одолаз (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8"/>
          <p:cNvSpPr/>
          <p:nvPr/>
        </p:nvSpPr>
        <p:spPr>
          <a:xfrm>
            <a:off x="5961240" y="6068880"/>
            <a:ext cx="1000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одолазный специалист (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9"/>
          <p:cNvSpPr/>
          <p:nvPr/>
        </p:nvSpPr>
        <p:spPr>
          <a:xfrm>
            <a:off x="6986520" y="4010040"/>
            <a:ext cx="107172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лужба радиационной и химической защит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50"/>
          <p:cNvSpPr/>
          <p:nvPr/>
        </p:nvSpPr>
        <p:spPr>
          <a:xfrm>
            <a:off x="8109000" y="4000680"/>
            <a:ext cx="8920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Кинологическая служб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1"/>
          <p:cNvSpPr/>
          <p:nvPr/>
        </p:nvSpPr>
        <p:spPr>
          <a:xfrm>
            <a:off x="6980400" y="4738680"/>
            <a:ext cx="107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ачальник службы (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2"/>
          <p:cNvSpPr/>
          <p:nvPr/>
        </p:nvSpPr>
        <p:spPr>
          <a:xfrm>
            <a:off x="6996240" y="5149800"/>
            <a:ext cx="107136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ший инструктор  ХРР (спасатель) (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53"/>
          <p:cNvSpPr/>
          <p:nvPr/>
        </p:nvSpPr>
        <p:spPr>
          <a:xfrm>
            <a:off x="6996240" y="5684760"/>
            <a:ext cx="1071360" cy="5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Химик –дозиметрист (спасатель) (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4"/>
          <p:cNvSpPr/>
          <p:nvPr/>
        </p:nvSpPr>
        <p:spPr>
          <a:xfrm>
            <a:off x="8118360" y="4437000"/>
            <a:ext cx="882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ший инструктор – спасатель (кинолог) (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5"/>
          <p:cNvSpPr/>
          <p:nvPr/>
        </p:nvSpPr>
        <p:spPr>
          <a:xfrm>
            <a:off x="8115480" y="5135400"/>
            <a:ext cx="885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инолог (спасатель) (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57"/>
          <p:cNvSpPr/>
          <p:nvPr/>
        </p:nvSpPr>
        <p:spPr>
          <a:xfrm flipH="1">
            <a:off x="4677840" y="1319040"/>
            <a:ext cx="1800" cy="109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60"/>
          <p:cNvSpPr/>
          <p:nvPr/>
        </p:nvSpPr>
        <p:spPr>
          <a:xfrm flipH="1">
            <a:off x="4677840" y="1660680"/>
            <a:ext cx="1800" cy="12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Соединительная линия уступом 66"/>
          <p:cNvCxnSpPr>
            <a:stCxn id="50" idx="3"/>
            <a:endCxn id="53" idx="1"/>
          </p:cNvCxnSpPr>
          <p:nvPr/>
        </p:nvCxnSpPr>
        <p:spPr>
          <a:xfrm flipV="1">
            <a:off x="5643720" y="556200"/>
            <a:ext cx="1643400" cy="6390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86" name="Прямая соединительная линия 77"/>
          <p:cNvSpPr/>
          <p:nvPr/>
        </p:nvSpPr>
        <p:spPr>
          <a:xfrm flipV="1">
            <a:off x="4677480" y="2017800"/>
            <a:ext cx="1800" cy="1698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Shape 80"/>
          <p:cNvCxnSpPr>
            <a:stCxn id="56" idx="3"/>
            <a:endCxn id="71" idx="0"/>
          </p:cNvCxnSpPr>
          <p:nvPr/>
        </p:nvCxnSpPr>
        <p:spPr>
          <a:xfrm>
            <a:off x="5715000" y="3837960"/>
            <a:ext cx="729000" cy="17244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8" name="Shape 88"/>
          <p:cNvCxnSpPr>
            <a:stCxn id="56" idx="1"/>
            <a:endCxn id="63" idx="0"/>
          </p:cNvCxnSpPr>
          <p:nvPr/>
        </p:nvCxnSpPr>
        <p:spPr>
          <a:xfrm flipV="1" rot="10800000">
            <a:off x="2928960" y="3837960"/>
            <a:ext cx="714600" cy="16308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89" name="Прямая соединительная линия 63"/>
          <p:cNvSpPr/>
          <p:nvPr/>
        </p:nvSpPr>
        <p:spPr>
          <a:xfrm flipH="1" flipV="1">
            <a:off x="2214360" y="3551400"/>
            <a:ext cx="1500120" cy="163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8"/>
          <p:cNvSpPr/>
          <p:nvPr/>
        </p:nvSpPr>
        <p:spPr>
          <a:xfrm>
            <a:off x="276120" y="5505480"/>
            <a:ext cx="192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астер-пожарный (спасатель) группы пиротехнических работ (7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0"/>
          <p:cNvSpPr/>
          <p:nvPr/>
        </p:nvSpPr>
        <p:spPr>
          <a:xfrm>
            <a:off x="276120" y="5883120"/>
            <a:ext cx="192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одитель (спасатель) группы пиротехнических работ (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4"/>
          <p:cNvSpPr/>
          <p:nvPr/>
        </p:nvSpPr>
        <p:spPr>
          <a:xfrm>
            <a:off x="8109000" y="5543640"/>
            <a:ext cx="8856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инолог (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ая соединительная линия 61"/>
          <p:cNvSpPr/>
          <p:nvPr/>
        </p:nvSpPr>
        <p:spPr>
          <a:xfrm flipH="1">
            <a:off x="7958160" y="1147680"/>
            <a:ext cx="14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2"/>
          <p:cNvSpPr/>
          <p:nvPr/>
        </p:nvSpPr>
        <p:spPr>
          <a:xfrm>
            <a:off x="6921360" y="1778040"/>
            <a:ext cx="20718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ший водитель (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67"/>
          <p:cNvSpPr/>
          <p:nvPr/>
        </p:nvSpPr>
        <p:spPr>
          <a:xfrm flipH="1">
            <a:off x="7966080" y="1606680"/>
            <a:ext cx="14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68"/>
          <p:cNvSpPr/>
          <p:nvPr/>
        </p:nvSpPr>
        <p:spPr>
          <a:xfrm flipH="1">
            <a:off x="2924280" y="4565520"/>
            <a:ext cx="14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70"/>
          <p:cNvSpPr/>
          <p:nvPr/>
        </p:nvSpPr>
        <p:spPr>
          <a:xfrm>
            <a:off x="276120" y="6251400"/>
            <a:ext cx="19288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ший механик (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9"/>
          <p:cNvSpPr/>
          <p:nvPr/>
        </p:nvSpPr>
        <p:spPr>
          <a:xfrm>
            <a:off x="6942240" y="2448000"/>
            <a:ext cx="17096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Группа робототехнических средств и беспилотных летательных аппарат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1"/>
          <p:cNvSpPr/>
          <p:nvPr/>
        </p:nvSpPr>
        <p:spPr>
          <a:xfrm>
            <a:off x="7068960" y="2995560"/>
            <a:ext cx="1390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ший инженер-начальник группы(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51"/>
          <p:cNvSpPr/>
          <p:nvPr/>
        </p:nvSpPr>
        <p:spPr>
          <a:xfrm>
            <a:off x="7068960" y="3392640"/>
            <a:ext cx="13906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нженер- группы(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73"/>
          <p:cNvSpPr/>
          <p:nvPr/>
        </p:nvSpPr>
        <p:spPr>
          <a:xfrm flipH="1" flipV="1">
            <a:off x="5643360" y="2028960"/>
            <a:ext cx="2152440" cy="419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0"/>
          <p:cNvSpPr/>
          <p:nvPr/>
        </p:nvSpPr>
        <p:spPr>
          <a:xfrm>
            <a:off x="3646440" y="6111720"/>
            <a:ext cx="1285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ший инспектор службы АСП (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5T12:17:05Z</dcterms:created>
  <dc:creator>ГКиВР</dc:creator>
  <dc:description/>
  <dc:language>en-US</dc:language>
  <cp:lastModifiedBy>Uopt206_3</cp:lastModifiedBy>
  <dcterms:modified xsi:type="dcterms:W3CDTF">2020-07-24T13:19:30Z</dcterms:modified>
  <cp:revision>22</cp:revision>
  <dc:subject/>
  <dc:title>Штатная структура Специализированной пожарно-спасательной части</dc:title>
</cp:coreProperties>
</file>